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A207-FF6B-49E7-A4D7-B1F86D339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DF11-4CA3-4A3C-B28D-88DA41B4A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BBC2-D0F7-4AE6-8BD8-23E4DC5C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FD1-A2BD-4DC3-87F4-08A39A11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DBB-7231-4B56-930B-82C446CF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3BF-9B92-40D5-8270-96AF3D8F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EF1-B024-46A3-905A-76A9D22E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7A7-13A6-4F5E-AD1F-E1CC291C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1CF-23C5-47C3-90DA-C5FD8623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994-F244-4B17-B6BC-6FE25A9C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287-2F33-4589-B65A-BB342BAF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DFB-E442-4854-8C68-D2FA0BCA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977-5C5A-4D09-B3E8-864609D7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20D-7EAA-4F35-9F02-FCEE3E16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663-FEEC-434B-B0CB-9E566FA4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CDF-F714-432F-9E4D-C95B3389B9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685800" y="15228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cabulary Vitamins</a:t>
            </a:r>
            <a:endParaRPr b="0" lang="en-US" sz="4400" spc="1" strike="noStrike">
              <a:ln w="19080">
                <a:solidFill>
                  <a:srgbClr val="ff66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1066680"/>
          <a:ext cx="8777520" cy="5484960"/>
        </p:xfrm>
        <a:graphic>
          <a:graphicData uri="http://schemas.openxmlformats.org/drawingml/2006/table">
            <a:tbl>
              <a:tblPr/>
              <a:tblGrid>
                <a:gridCol w="2925720"/>
                <a:gridCol w="2926080"/>
                <a:gridCol w="2925720"/>
              </a:tblGrid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Connect the word with something in your world and discuss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ocate the word in the text and read the paragraph to get context mean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Tahoma"/>
                          <a:ea typeface="Times New Roman"/>
                        </a:rPr>
                        <a:t>Create a design that depicts the meaning if the wo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7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Tahoma"/>
                          <a:ea typeface="Times New Roman"/>
                        </a:rPr>
                        <a:t>Make a mnemonic to remember the word and its mean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Make a word puzzle or a gam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Tahoma"/>
                          <a:ea typeface="Times New Roman"/>
                        </a:rPr>
                        <a:t>Contrast the word with something el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ite a poem with the word, its meaning, and facts about the word.  Illustrate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Tahoma"/>
                          <a:ea typeface="Times New Roman"/>
                        </a:rPr>
                        <a:t>Tell a story using the word three times in the plo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ach the word and its meaning in a memorable way to a classmate or family memb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Explain how the word is used in the tex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vide the word into syllables.  Chant and tap the syllab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Create a song, poem, cheer or rap using the word as the topi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ole play the meaning of the wo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Design a banner or flag for the wor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Tahoma"/>
                          <a:ea typeface="Times New Roman"/>
                        </a:rPr>
                        <a:t>Sell the word by writing an advertisement for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31"/>
          <p:cNvSpPr/>
          <p:nvPr/>
        </p:nvSpPr>
        <p:spPr>
          <a:xfrm>
            <a:off x="0" y="617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609480" y="228600"/>
            <a:ext cx="7925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Vocabulary Word Map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62120" y="1295280"/>
            <a:ext cx="38098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5257800" y="22096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743200" y="2590920"/>
            <a:ext cx="419112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572000" y="4038480"/>
            <a:ext cx="4572000" cy="281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609480" y="464832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609480" y="518148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609480" y="57150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609480" y="6172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57200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picture or RELATE it to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670120" y="22860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310800" y="12556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762120" y="99072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r Syno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762120" y="4114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word in a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7:44:18Z</dcterms:created>
  <dc:creator>Paula</dc:creator>
  <dc:description/>
  <dc:language>en-US</dc:language>
  <cp:lastModifiedBy>Paula</cp:lastModifiedBy>
  <dcterms:modified xsi:type="dcterms:W3CDTF">2011-09-15T20:37:12Z</dcterms:modified>
  <cp:revision>2</cp:revision>
  <dc:subject/>
  <dc:title>Slide 1</dc:title>
</cp:coreProperties>
</file>